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65B-6A88-4E9D-B0DF-3A3B5CBF5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CDF1-CD55-4BC7-AC63-5B1F9F9400C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80D6-83DE-4F61-89F0-894C179B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18A8-6BDC-4EBC-AEA9-007387501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4E5E-3A42-4D64-8296-6BAEBC8F3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2A8A-EBE2-4754-80F9-D2488537C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08430-A5BB-4B20-972B-BDBE6C76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CE18-58B8-4390-8641-DE147B9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6F5D-4324-4C26-AB74-3E8794DD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2D67D-DCB3-4019-A526-FF2CEFC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0D85E-67FC-43CA-9B5C-0C96DBB6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C9BEA-C465-4A5E-A9B2-DAF5B30E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23688-7BCA-4E62-BF6F-9880C02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119F-B701-4077-9037-FE7171BAB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0AFD9-784A-4EA5-B7C1-3D6BAA01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E0DF-6D8D-49B6-AF4B-904892C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0B433-0744-4089-A95E-CE382BC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9B61B-4B4F-4C3D-B2E1-86369923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199ED-EAE4-4648-BD51-F92E128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2B76C-2BCF-408F-9021-A78CF8BFC3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D2BA0E-ED68-4289-BF3E-633E7B46A5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563F9-922F-44D5-90AC-04088223AA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52117-501F-457A-9D10-D15F6CBB46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CBF00A-5ABC-4112-8714-548D6A4EB3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8E24-0D58-4601-95F2-EDB0A45091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8EDEF-EE57-4705-93B5-0826D785D9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665B1-F337-4D66-9E80-E05E9DAF25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1997F-F066-4474-BC24-44107EFCF8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0F73F-9124-46C8-A6F4-7C32E24CF5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08468-F19E-421E-9F07-AD4EC52185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E5B59-BD9A-4A0A-B289-0A7924ADC0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409F6-123A-4D3D-AE37-0C1DC346E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B891-272C-431C-90AD-67EC97637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2787-EBFD-4FA3-92CF-1D0A6A38E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0C6A-8F55-4DBD-A9AA-330F981B3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35E2-189C-492D-980A-D02396CA8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9E7C-EEA5-480B-8FC6-3A1520F8F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91D1-FC5A-4178-B8AA-F6B745BAB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67F66C4-80BD-4AF1-BE5B-18E5C72ED3A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D2F05C0-B6B1-40F8-9AE4-A8181568AD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1B4-2574-4266-B2F7-9A4D2281731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DF4751B-5BB0-4EEE-A51B-2BE7F075EDBB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0F01407-A7DB-42C9-914E-4BC2248387A4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11-15T11:53:22Z</dcterms:modified>
  <cp:revision>370</cp:revision>
  <dc:subject/>
  <dc:title>No Slide Title</dc:title>
</cp:coreProperties>
</file>